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6640" cy="34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636B-1CA3-40D5-A6DD-472AA4F49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yourself. Welcome to Budgeting and Money Managem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96C8-7831-48B8-991E-82CD44BC02D6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hart represents suggested guidelines to achieve a balanced budg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nd no more than 15% of your net income 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DEB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Includes loans, credit cards, medical deb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nd no more than 35% of your net income 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OUS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Includes mortgage/rent, utilities, insurance, taxes, home mainten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AVING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0%: You should have at least 3 months income saved in an account for emergenc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nd no more than 15% of your net income 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RANSPORT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Includes car payment, auto insurance, tag or license, maintenance, gas, par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nd no more than 25% of your net income 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TH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Includes all other expenses such as food, clothing, entertainment, childc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keep your budget updated often because each element of your budget will change over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8668-9424-4E22-AFB6-746C7962B398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don’t already keep a budget, the concept can be pretty overwhelming. But in reality, without a budget it’s easy to overspend or under-save. If you are not budgeting, you need to ask yourself why. (Discuss with grou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a few r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69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6920" indent="-17316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n’t like to see our finances on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6920" indent="-17316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ink we can budget in our he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6920" indent="-17316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eel we don’t hav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6920" indent="-17316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milies, friends and colleagues don’t budget, why should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1AED-47B5-4BC3-9131-F565A5F3C7B6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budgeting “Do’s and Don’ts” to help you get over you “budgeting fears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A2D7-BCCA-4C96-B4BF-E7F838BB3E41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DCE7-0F98-4EA0-B796-EDBB13DA0D46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ing is an important element in a budget. It will help you maintain your financial goals, even when you have to pay for unexpected expe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ection will address ways you can help increase the funds in your savings accou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6BDC-C216-4981-87E9-A872A0C85A76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2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0B99-374D-4E50-A80E-205470C25532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6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2A61-1D65-48C5-819C-3AB2B5D13997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DC8E-0B29-48BE-8BF7-06A9237014F3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ining your spending habits may also provide another way you can sa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7998-8A52-47FC-949D-A52FCFD8F772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1D90-DCBC-4FD1-A91A-57DDD7E83579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2DDB-43E9-4592-A4EC-A457B2C02189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908F-74F0-4063-800B-0F84903EFDBA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67EF-31AE-45F5-BB13-E4F777622449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ave attendees take out Fritter Finder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know how much you spend in a week? If not, you might find this handout extremely helpful. For one week track every cent you spend. At the end of the week, you’ll be able to identify where your money go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BE7D-5F71-4A5F-AB2D-A490EAAE95C7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section we will review a few money management tips that will help you stay within your budg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9BCC-4D9C-4CB9-9A72-C93151523A27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8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s can use the Fritter Finder to guide them through these ste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BF0A-C43E-4182-BFF7-29B8CBEC88BA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8C12-3715-4912-8CCE-ACF1B1460038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6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B7D6-87E3-4D63-B7F1-8F7B726124CE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6902-D022-4F9B-888F-D339AF20AA45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E0E3-182A-4E1A-936E-AB1756BC1E03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8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4A35-7FB5-46EE-B729-6CE6D26F0798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2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ncial concerns can be due to the lack of money, but not always. Sometimes a lack of financial planning can be the problem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ing where you are now financially and where you want to be in the future, will help you develop a budget to prevent a financial cris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6015-51DF-4940-BED3-2AC9251A9324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mind attendees to use the Money Management Planner and notes they took during the session to get them started on the path to wise budgeting and money manag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3D7B-D289-441A-B65A-C67391C19BD1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6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3D0-F8DF-40D8-B47A-A32FA6C45DA0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stablishing financial goals it is helpful to separate them into short-term, mid-term, and long-term go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goals down so that you are able to maintain focus and gauge your progre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r goals are realistic. If your goal is to save $800.00 a month and you only make $1,000.00, you need to reevaluate your plan. Anytime you set a goal it should coincide with your budget; however, if you find that your goal exceeds the funds within your budget look at options to increase your income, i.e. reduce current spending, or consider a part-time job to acquire additional fun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03C0-4952-462B-9F7F-F99B6AC9AEC9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2C55-BD8E-460B-A22F-7FE486EDA787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dget is a plan to manage your money for a specified period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antages to having a budget: allows you to track spending, helps you save money (i.e. emergency expenses) and helps you prevent overspen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dget also provides peace of mind. If you have a budget you are aware of your spending habits; therefore, you are less likely to overdraft your accou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geting can also provide you with a sense of accomplishment as you work toward your financial go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705E-434F-4D74-B21B-B9C353BCEB6B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main components included in a budget—income and expe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termining your income be sure to include other sources such as alimony, child support, income from a spouse/second job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nses include goods and services that deduct money from your total inc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n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1731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(amounts do not change) example: loan pay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1731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(amounts change frequently) example: groc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1731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ic (amounts not paid monthly; can be fixed or variabl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car insurance and car repai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f you are uncertain of your current expenses, start small. Starting today, write down everything you have spent and keep track of your spending for a month. At the end of the month review your spending habits to determine a realistic budget for your expe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415D-3A24-4F02-B666-D68556D2C6F9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4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5420-5D13-4E89-A750-F6AAB02B1377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income equals your expenses you are correctly allocating your f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udget reveals your income is greater than your expenses, you need to allocate more funds to your sav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udget reveals your expenses exceed your income, you will need to evaluate your spending pl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005D-A931-4897-BC9D-CFF7E7CB5CC6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0722-E977-4167-A77E-898AB633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1476-873D-45F1-AB51-15C6414A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F735-5541-46F9-888E-E923E63F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EC70-FA61-42A9-87DE-56DE8486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1338-97B4-4425-852E-5BB44975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F5AD-92E9-4A56-9460-0C7DCE52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D129-BA7F-4D9B-A2D0-27182EF7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C710-5745-4FBE-BF02-4409009D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12EF-5361-49D8-A667-CF8B65EC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A26C-F39B-4532-A129-A7223784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2CA8-2655-4B95-838E-CEE47391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E09F-B980-419D-AC64-1FF20E26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A195-96CB-48F2-A6B6-48BE016C5C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4495320"/>
            <a:ext cx="85914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75e47"/>
                </a:solidFill>
                <a:latin typeface="Cambria"/>
              </a:rPr>
              <a:t>Budgeting</a:t>
            </a:r>
            <a:r>
              <a:rPr b="1" lang="en-US" sz="4000" spc="-1" strike="noStrike">
                <a:solidFill>
                  <a:srgbClr val="675e47"/>
                </a:solidFill>
                <a:latin typeface="Cambria"/>
              </a:rPr>
              <a:t> and Money Management  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1" name="Picture 4" descr="SECU black (the good one).gif"/>
          <p:cNvPicPr/>
          <p:nvPr/>
        </p:nvPicPr>
        <p:blipFill>
          <a:blip r:embed="rId1"/>
          <a:stretch/>
        </p:blipFill>
        <p:spPr>
          <a:xfrm>
            <a:off x="6022800" y="6394320"/>
            <a:ext cx="243864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057400" y="1219320"/>
            <a:ext cx="5033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ing Guidelines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75" name="Object 8"/>
          <p:cNvGraphicFramePr/>
          <p:nvPr/>
        </p:nvGraphicFramePr>
        <p:xfrm>
          <a:off x="457200" y="2057400"/>
          <a:ext cx="76201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7620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The concept of keeping a budget can be complicated, but it doesn’t have to be!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703600" y="3594240"/>
            <a:ext cx="32004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ing Do’s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nk of your budget as an ongoing planning device—a way to reach your financial goals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Prioritize your financial goals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Limit budget projections to a couple of months ahead until you get the hang of i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ing Don’ts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Don’t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think of your budget as inflexible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Don’t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get frustrated if you </a:t>
            </a:r>
            <a:r>
              <a:rPr b="0" lang="en-US" sz="3200" spc="-1" strike="noStrike" u="sng">
                <a:solidFill>
                  <a:srgbClr val="2f2b20"/>
                </a:solidFill>
                <a:uFillTx/>
                <a:latin typeface="Calibri"/>
              </a:rPr>
              <a:t>at first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don’t reach your targeted budget. Be prepared to modify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Don’t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give up! With confidence you can make a budget that works best for you!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Saving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371600" y="2122560"/>
            <a:ext cx="603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Pay Yourself Firs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YOU ARE THE MOST IMPORTANT EXPENSE!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ach time you are paid, set aside a portion of your check to go into a savings accoun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s ensures you are able to pay for things that are important to you and establishes an emergency fund. 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How Much Is A Enough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t aside at least 10-15% of your paycheck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If you can’t set aside 10-15%, set aside as much as you can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nk of saving your money as a bill you have to pay each month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How Can I Save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Financial Institution: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financial institution can automatically transfer a specified amount from your checking account to your savings account every pay period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Employer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f your employer offers Payroll Deduction, specify an amount from your check to be deposited to your savings account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Spending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35412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Did You Know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e average person spends money 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3 times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a day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Putting aside every coin you touch usually results in saving about 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$50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a month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$5 sandwich usually has less than $1 worth of ingredients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Topics of Discuss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Financial Goal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stablishing a Budge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aving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pending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Money Management Tip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What If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You purchased a soda every day for 1 year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You went out to eat 3 times a week for 1 year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8" name="Picture 6" descr="MPj04304720000[1]"/>
          <p:cNvPicPr/>
          <p:nvPr/>
        </p:nvPicPr>
        <p:blipFill>
          <a:blip r:embed="rId1"/>
          <a:srcRect l="0" t="13160" r="13160" b="0"/>
          <a:stretch/>
        </p:blipFill>
        <p:spPr>
          <a:xfrm>
            <a:off x="4876920" y="2133720"/>
            <a:ext cx="251604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Resul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If a soda costs $.75, 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you would spend $273.75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(365 days per year x $.75 =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$273.75)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If it costs $8.00 each time you eat out, 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you would spend $1,248.00!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(3 days x $8.00 = $24.00/week)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(52 weeks x $24.00 = $1,248.00)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Fritter Finder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248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Money Management Tip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829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Money Management Tip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Get a realistic view of your spending. For one week, write down 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Calibri"/>
              </a:rPr>
              <a:t>everything you spend.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dentify areas you can cut back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mphasize your needs rather than your wants.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04920" y="63244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formation provided by smartaboutmoney.or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Money Management Tips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3712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2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Limit your money access.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void areas where you are most tempted to spend money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Don’t use your card at ATMs that will charge you a fee (surcharge).  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609480" y="63244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formation provided by smartaboutmoney.or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Money Management Tip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If available, consider using store lay-away plans, you are required to pay for the entire purchase before you receive i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lways carry a shopping list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reat yourself in small ways rather than spending a lot of money on big purchases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28600" y="63244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formation provided by smartaboutmoney.or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Money Management Tip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t financial goals for debts you want to pay off. Be specific and assign a date by which to achieve these goals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lways pay your bills on time. If a bill is going to be late, contact the creditor immediately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Build an emergency fund equal to at least 3 months' salary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28600" y="63244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formation provided by smartaboutmoney.or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75e47"/>
                </a:solidFill>
                <a:uFillTx/>
                <a:latin typeface="Cambria"/>
              </a:rPr>
              <a:t>Steps to a Bright Financial Future 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Organize your financial documents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rack your spending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Be a selective shopper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valuate your deb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75e47"/>
                </a:solidFill>
                <a:uFillTx/>
                <a:latin typeface="Cambria"/>
              </a:rPr>
              <a:t>Steps to a Bright Financial Future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educe your deb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Build a strong credit repor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ave for your future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Content Placeholder 4" descr=""/>
          <p:cNvPicPr/>
          <p:nvPr/>
        </p:nvPicPr>
        <p:blipFill>
          <a:blip r:embed="rId1"/>
          <a:stretch/>
        </p:blipFill>
        <p:spPr>
          <a:xfrm>
            <a:off x="4718160" y="1536840"/>
            <a:ext cx="306072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Financial Goal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391464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75e47"/>
                </a:solidFill>
                <a:uFillTx/>
                <a:latin typeface="Cambria"/>
              </a:rPr>
              <a:t>Steps to a Bright Financial Future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t financial goals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a9a57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reate a budge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a9a57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Invest money to achieve your goals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Content Placeholder 10" descr=""/>
          <p:cNvPicPr/>
          <p:nvPr/>
        </p:nvPicPr>
        <p:blipFill>
          <a:blip r:embed="rId1"/>
          <a:stretch/>
        </p:blipFill>
        <p:spPr>
          <a:xfrm>
            <a:off x="4722840" y="1536840"/>
            <a:ext cx="30510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54380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QUESTIONS?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26" name="Picture 2" descr="SECU black (the good one).gif"/>
          <p:cNvPicPr/>
          <p:nvPr/>
        </p:nvPicPr>
        <p:blipFill>
          <a:blip r:embed="rId1"/>
          <a:stretch/>
        </p:blipFill>
        <p:spPr>
          <a:xfrm>
            <a:off x="6022800" y="6394320"/>
            <a:ext cx="24386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Financial Goal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hort-term goals are achieved in under one year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id-term goals are achieved in one to five years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ng-term goals are achieved in more than five years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9" name="Content Placeholder 6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2514600" cy="3770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609480" y="6172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formation provided by balancepro.n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Financial Goal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52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Define your goals—What do you want?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et an amount—How much money do you need?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et a target date—When do you need to meet your goal?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Develop a plan—Establish a budget that includes your financial goals.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-31680" y="63244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formation provided by smartaboutmoney.or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 plan to manage your money for a specified period of time. 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3" descr="Money 3.jpg"/>
          <p:cNvPicPr/>
          <p:nvPr/>
        </p:nvPicPr>
        <p:blipFill>
          <a:blip r:embed="rId1"/>
          <a:stretch/>
        </p:blipFill>
        <p:spPr>
          <a:xfrm>
            <a:off x="2743200" y="335268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udgeting Components: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ncom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xpenses: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7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xed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7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7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Periodic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9" name="Picture 3" descr="Money 16.jpg"/>
          <p:cNvPicPr/>
          <p:nvPr/>
        </p:nvPicPr>
        <p:blipFill>
          <a:blip r:embed="rId1"/>
          <a:stretch/>
        </p:blipFill>
        <p:spPr>
          <a:xfrm>
            <a:off x="4343400" y="220968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ing Outl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295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2b20"/>
                </a:solidFill>
                <a:latin typeface="Calibri"/>
              </a:rPr>
              <a:t>Step 1: Determine Income</a:t>
            </a: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alary, Alimony, Child support, Dividends..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2b20"/>
                </a:solidFill>
                <a:latin typeface="Calibri"/>
              </a:rPr>
              <a:t>Step 2: Determine Expenses</a:t>
            </a: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ist and categorize each expense (fixed, variable, periodic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2b20"/>
                </a:solidFill>
                <a:latin typeface="Calibri"/>
              </a:rPr>
              <a:t>Step 3: Analyze Budget</a:t>
            </a: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mpare Income and Exp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2b20"/>
                </a:solidFill>
                <a:latin typeface="Calibri"/>
              </a:rPr>
              <a:t>Step 4: Keep Track of your Budget</a:t>
            </a: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Review your finances on a monthly basis and make changes when necessary.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Sample Budget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371600"/>
          <a:ext cx="6934320" cy="512136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check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0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com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0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Expens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tgage/Rent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5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 Loa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Loa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Expens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ties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1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ic Expens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 Insuran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Expens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0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2:45:16Z</dcterms:created>
  <dc:creator>s22030n</dc:creator>
  <dc:description/>
  <dc:language>en-US</dc:language>
  <cp:lastModifiedBy>Staff</cp:lastModifiedBy>
  <cp:lastPrinted>2013-07-22T21:03:19Z</cp:lastPrinted>
  <dcterms:modified xsi:type="dcterms:W3CDTF">2014-10-29T19:52:46Z</dcterms:modified>
  <cp:revision>96</cp:revision>
  <dc:subject/>
  <dc:title>The Fundamentals of a Budget</dc:title>
</cp:coreProperties>
</file>